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4D6-0A3F-42CD-AA9B-57733641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EC3-2C5D-43BF-A3D2-4DD8A620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798-89D4-49E4-B5CA-7ED40842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227-2815-40D7-8EF2-50FF346D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9AF-19AD-49A9-A11F-011133D0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20D-E142-4ECE-A8CD-ADBD49E3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593-CB70-442D-ACE6-C4AD7AE6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4C1-A38E-4E7A-BAF7-F4215161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60F-EE36-497B-AF75-A78F67BE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E5E-9A48-452F-8E90-1FF127F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A54-D464-48AB-9EDC-0AED8C9A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FB4-7517-46B3-9E39-DE355EA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4974-D604-4B68-9C6C-9EB04E634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video.google.com/videoplay?docid=3707333237510048522&amp;ei=OLTQSZrmJ5KqrQK69unSCQ&amp;q=Water+Pollution&amp;hl=e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ow Much Water Is Used (in gallons)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ke a prediction in your water pollution packet, then check out the next slide for the actual am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96440" y="2514600"/>
            <a:ext cx="822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aking a showe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103480" y="299736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5-5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8280" y="2558880"/>
            <a:ext cx="822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aking a bath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652120" y="2997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5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-456120" y="2170080"/>
            <a:ext cx="1005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was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a small load of laundry i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a washing machin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652120" y="2997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3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-1155960" y="2170080"/>
            <a:ext cx="11519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brushing your teeth and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running the water continuousl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469960" y="29973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-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79360" y="923760"/>
            <a:ext cx="8559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ter Quality: It’s In Our Hand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click on slide show and start slide show—then click on the word vide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-273240" y="2514600"/>
            <a:ext cx="969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of water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o flush a toile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2469960" y="29973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5-7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818640" y="2558880"/>
            <a:ext cx="749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run a dishwashe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103480" y="299736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15-2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-90360" y="2612880"/>
            <a:ext cx="93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was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dishes by hand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2652120" y="2997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829800" y="2558880"/>
            <a:ext cx="749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water a small law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2652120" y="2997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3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20:51Z</dcterms:created>
  <dc:creator>User</dc:creator>
  <dc:description/>
  <dc:language>en-US</dc:language>
  <cp:lastModifiedBy>User</cp:lastModifiedBy>
  <dcterms:modified xsi:type="dcterms:W3CDTF">2010-01-04T17:26:50Z</dcterms:modified>
  <cp:revision>1</cp:revision>
  <dc:subject/>
  <dc:title>How Much Water Is Used (in gallons)?</dc:title>
</cp:coreProperties>
</file>